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C26E-1003-4DAF-B15E-28A68E48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26F4-958E-44BD-B436-0B37A4D9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7F8-5A1A-4742-8CDA-99AFAACE2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8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ypothesized the existence of a hereditary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F02C-A77F-42D9-8F58-8B2839C1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6F18-A1E7-4494-8886-FF432A9AE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DB2A-F104-48AB-88EB-34892514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rederick_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bacteriolog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356C-0D76-4AC8-803A-5F02DFC0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74DC-CBF2-43F9-AA38-9E94B789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9D2-E8EB-4AF3-A5AA-CE1B3198D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AE74-C874-4523-A023-817091812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1A7-78CD-4593-AA62-01A80813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B4DC-8338-4309-981F-4BDE1618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799D-E7CC-459A-8747-36ACE7110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6EE1-BCDA-4C14-928C-05D5AD075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1FA5-86EF-4C94-9B8A-E6285584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96E0-C02B-4A10-AF85-2E22B872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2835-C245-4841-B312-AD0809CD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2E23-8341-4DDB-8EE1-466EBB6A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B1E0-4426-475A-92EC-B6578DF9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B77B-3B79-40C4-A2CC-778AC1C2C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66C-7749-4167-A11E-756C367BA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A627-6069-48A0-948C-464F3BD1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DF33-5959-4598-8F40-8750D9A2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7D63-CCC9-40FF-9BE6-C050675ED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84C-84E9-4953-80CA-C5514CCE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534-0223-4F6A-9E8F-305A47CF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2D8-E076-4C9E-A1B3-48AA0722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072-2D7E-4B64-8E11-AAE4E33E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580-0202-4BC7-AB02-AA8F2133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ADC-9DFE-41D3-82AE-4D2EED9D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8A7-4F06-4A73-A954-DF05E781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CB5-9ACD-4754-88EE-0AD8B9F7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CDE-34DA-423C-A472-117AB63C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BD3-DA84-4D4C-86AF-6C88C82F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BAD-E9F9-40E9-A8F7-94A890E0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047-AA9C-42C7-9D58-A9608A09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8A2-F79E-49E7-9D01-81C91B06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FC5-85A8-4CA4-AC2D-BFF2098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DC00-F885-44A9-B70F-B3CB7315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5 &amp; 6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 (18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3304639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at DNA is the Hereditary Molec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29" descr="friedrich_miescher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n acidic substance with a high concentration of 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lled i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naftb.org/15/animati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140px-Griffithm"/>
          <p:cNvPicPr/>
          <p:nvPr/>
        </p:nvPicPr>
        <p:blipFill>
          <a:blip r:embed="rId1"/>
          <a:stretch/>
        </p:blipFill>
        <p:spPr>
          <a:xfrm>
            <a:off x="2984400" y="1523880"/>
            <a:ext cx="332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th experiment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27" descr="75780381407418910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how animation(from Griffith to Avery, McLeod, McCarth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nalc.org/view/16375-Animation-17-A-gene-is-made-of-DNA-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29" descr="FG11_02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14/animations.htm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phagestructure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bacteriophage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NA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HERSHEY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Maurice Wilk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imag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 double helix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show show how the image relates to the 3-D shape of DNA: 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-form"/>
          <p:cNvPicPr/>
          <p:nvPr/>
        </p:nvPicPr>
        <p:blipFill>
          <a:blip r:embed="rId1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odel of DNA with a double helix of 2 anti-parallel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naftb.org/dnaftb/19/concept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tructure-of-DNA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ucleotide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image057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rna_and_dna-1cayhm3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polynuc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1 Genetics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&amp;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id &amp; hap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 - A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5-11-05T20:01:17Z</dcterms:modified>
  <cp:revision>136</cp:revision>
  <dc:subject/>
  <dc:title>Molecular Genetics</dc:title>
</cp:coreProperties>
</file>